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12D-2049-4D54-8DBE-0A6FA80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6D9-43D8-48EC-95C2-E34A45F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533-76C5-4F48-AAE3-2BBFCE51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E01-82F6-43CE-AD9E-3AFBBF31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A80-2DD4-4408-B247-4D00E816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2B9-0F5F-4233-90EB-71BF830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603-7938-48CF-A237-4CC7FD9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320-8479-402B-B8A6-D03E716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6B6-CD20-41A9-89A2-D947EEF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F7C-4AFF-4401-B619-09C3A86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106-7CD2-4E50-B844-53D6109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05A-2C52-4F5D-8897-0C1F03EB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5C9-AA41-4CBC-A2EE-8B9ED65A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62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5360" y="289080"/>
          <a:ext cx="8690040" cy="5730840"/>
        </p:xfrm>
        <a:graphic>
          <a:graphicData uri="http://schemas.openxmlformats.org/drawingml/2006/table">
            <a:tbl>
              <a:tblPr/>
              <a:tblGrid>
                <a:gridCol w="1241280"/>
                <a:gridCol w="1241640"/>
                <a:gridCol w="1241280"/>
                <a:gridCol w="1241640"/>
                <a:gridCol w="1241280"/>
                <a:gridCol w="1241280"/>
                <a:gridCol w="1241640"/>
              </a:tblGrid>
              <a:tr h="5101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August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UN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</a:tr>
              <a:tr h="991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 RUC,RT 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P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oard Mt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1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MS Req. #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 – RT 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P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mmunications Activ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RCOT Meeti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dal Milestones/Activ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PUC Open</a:t>
                      </a:r>
                      <a:r>
                        <a:rPr b="0" lang="en-US" sz="10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800" y="-4748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5973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0" y="12421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62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-4748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517680"/>
          <a:ext cx="8688240" cy="5730840"/>
        </p:xfrm>
        <a:graphic>
          <a:graphicData uri="http://schemas.openxmlformats.org/drawingml/2006/table">
            <a:tbl>
              <a:tblPr/>
              <a:tblGrid>
                <a:gridCol w="1239840"/>
                <a:gridCol w="1241280"/>
                <a:gridCol w="1241640"/>
                <a:gridCol w="1241280"/>
                <a:gridCol w="1241640"/>
                <a:gridCol w="1241280"/>
                <a:gridCol w="1241280"/>
              </a:tblGrid>
              <a:tr h="4597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September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UN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</a:tr>
              <a:tr h="1005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abor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gram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gram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RR Req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MS Req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MS Req. #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 – RMR, BS, VS, Emer Req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oard Mt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-CRRs&amp;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800" y="5973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12421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62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0" y="-4748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" y="5973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7160" y="380880"/>
          <a:ext cx="8688240" cy="5730840"/>
        </p:xfrm>
        <a:graphic>
          <a:graphicData uri="http://schemas.openxmlformats.org/drawingml/2006/table">
            <a:tbl>
              <a:tblPr/>
              <a:tblGrid>
                <a:gridCol w="1239840"/>
                <a:gridCol w="1241280"/>
                <a:gridCol w="1241640"/>
                <a:gridCol w="1241280"/>
                <a:gridCol w="1241640"/>
                <a:gridCol w="1241280"/>
                <a:gridCol w="1241280"/>
              </a:tblGrid>
              <a:tr h="4597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October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UN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314871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tat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vo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Misc.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oard Mtg</a:t>
                      </a: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14871"/>
                          </a:solidFill>
                          <a:latin typeface="Garamond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mmunications Activ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RCOT Meeti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odal Milestones/Activ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PUC Open</a:t>
                      </a:r>
                      <a:r>
                        <a:rPr b="0" lang="en-US" sz="10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4871"/>
                      </a:solidFill>
                    </a:lnL>
                    <a:lnR w="5760">
                      <a:solidFill>
                        <a:srgbClr val="314871"/>
                      </a:solidFill>
                    </a:lnR>
                    <a:lnT w="5760">
                      <a:solidFill>
                        <a:srgbClr val="314871"/>
                      </a:solidFill>
                    </a:lnT>
                    <a:lnB w="5760">
                      <a:solidFill>
                        <a:srgbClr val="31487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00" y="12421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7:33:23Z</dcterms:created>
  <dc:creator>Sheila Letkeman</dc:creator>
  <dc:description/>
  <dc:language>en-US</dc:language>
  <cp:lastModifiedBy>tdoggett</cp:lastModifiedBy>
  <dcterms:modified xsi:type="dcterms:W3CDTF">2006-08-10T19:22:22Z</dcterms:modified>
  <cp:revision>6</cp:revision>
  <dc:subject/>
  <dc:title>Slide 1</dc:title>
</cp:coreProperties>
</file>